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2B89-E931-45D9-8D71-1CF85C9CC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094-BC60-4C75-8DE8-02728299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A27-E7EC-40A6-AA2B-AAD4CD24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C5E-A4A3-4EB6-85CE-8E8D231D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963-3113-45B2-AF33-6A048254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790-1BC1-403D-901B-32421669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F59-B7AD-4872-A5E1-34C48773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255-7731-464E-A324-B021D0BF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D4B-EDD0-4ECC-B711-71EDD470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62A-55F8-4BCB-8F3D-39CFD915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828-3047-434C-AD81-EF138C05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C66-B6DC-4C5A-A118-5A3A6377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30E-60BC-4685-9366-937E97A4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9905-5629-4F58-968A-74A9CCA99D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51A2E3-311E-4213-9862-42BF8D89AB18}" type="datetime12">
              <a:rPr b="0" lang="en-US" sz="1400" spc="-1" strike="noStrike">
                <a:solidFill>
                  <a:srgbClr val="000000"/>
                </a:solidFill>
                <a:latin typeface="Arial"/>
              </a:rPr>
              <a:t>09:36 A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C3AF-BBC5-46C9-96B5-E472420E7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9051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Chemistry Fall Semester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A4F-4C2C-49FF-A5C2-4A6060D5E9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5: Naming!  Molar mass, oxidation numbers, and polyatomic ion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A33-A550-42E2-BAAD-ECAD1F8D6D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5: Also, percent composition, empirical formula and molecular formu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BE7-8758-4D24-B462-630D840F6A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-360" y="14475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6: Reactions.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Clues of rxns.  Balancing equations.  Types of reac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FAD-0498-404B-9EE3-548845F848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6: Also, predicting produ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A15-B38E-4684-AB9A-0680ADB2C6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7: Stoichiometry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Percent yield, and limiting react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FCB-877C-4F6D-98FB-305F9D9A8A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1EF-A8D1-489E-AEE7-FB5442FB9B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the scientific meth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E7F-DB6E-4C60-9A7E-426FA8EE37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roblem, hypothesis, experiment, observations, law, the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EBF-15B2-4398-9CD9-73AA778815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cientists solve problems by using the scientific meth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36C-EE1A-4C3C-81A6-3C349ED126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ypotheses are tested with experiments.  Can become theori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0FE-D2B9-4111-98E1-6F0BDE340A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Tes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95 multiple cho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ach question holds the equal 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cantron (penci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~104 minu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7F3-F591-41BF-99A5-AE732A0852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ories explain observations made over long periods of ti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C52-3B3B-4CAD-ACFE-1D242431FB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aws are used to summarize observed behavi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aw of conservation of ma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316-8572-46F1-AE54-B5FC13E5B7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bservations  can be quantitative (data) or qualitative (description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551-2894-4931-AE86-528CADCC9E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ll measurements are made with accuracy and maximum preci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ignificant fig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FAF-6E2C-4DB2-BC7D-6877FF0CE4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ignificant figures: all certain plus one uncertain dig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197-6394-4073-8A33-66165B982E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 metric system is based on prefix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27D-4D9A-4962-910B-6254868CA4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240" y="9144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kilo-                      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hecto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deka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Base (m, L, 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deci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enti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milli-                     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1600200"/>
            <a:ext cx="0" cy="1752480"/>
          </a:xfrm>
          <a:prstGeom prst="line">
            <a:avLst/>
          </a:prstGeom>
          <a:ln w="92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505320"/>
            <a:ext cx="0" cy="1828800"/>
          </a:xfrm>
          <a:prstGeom prst="line">
            <a:avLst/>
          </a:prstGeom>
          <a:ln w="92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A3A-6369-4150-A068-8868153895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nvert 54.6 mg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: divide 54.6 by 1000 = 0.0546 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C54-2DB9-4172-8AF2-0AA51C1D54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emperature measure average kinetic energy of a subst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ahrenheit, Celsius, Kelv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8A7-1B45-4BDA-9B0A-F211AD686E5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elvin is the “absolute” temperature sca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D66F-AB41-479A-83CB-7A12BA8017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Final Schedu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1/13: Per.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1/14: Per. 1 and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1/15: Per. 2 and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1/16: Per. 4 and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6F6-7DFD-4B79-990C-4F9F814B64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:  K – 27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K:  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 + 27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:  (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 x 1.80) + 3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:  (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 – 32) / 1.8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531-D3ED-497B-ADC6-5CA6E8764F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nvert 140 K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: - 133 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BEC-2677-48D8-83A6-BB3B6C082B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A1A-46CE-47E4-B3F8-3246B096A2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ig fig in calcul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esser number in mult / d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ine up numbers in add / subtra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285-9452-47B1-A401-77D35778EA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ind the area of volume of a box: L=10.0 cm, w=2.5 cm, h=5.60 c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: 140 cm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806-EC73-4698-9E70-4E5BFBA81E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hysical properties: substance stays the sa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hemical: reactivit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FB1-BDB5-4030-A9F2-0AF18CABADA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toms, compounds and mixt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toms cannot be separa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900-4468-46D5-8937-0B629C120E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mpounds can be separated by chemical means; mixtures by physical me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368-D45C-49D7-9B55-60931B12929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etero- vs. homogeneous mixt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eterogeneous can be separated by filt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at about homo-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CC6-A628-470B-B3AA-DE52B550CA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about Democritus, Dalton, Thomson, Rutherford and Mendelee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3FE-1373-4FA8-BAC1-B8774C1F7F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commend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tudy old review shee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tudy your 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your shap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ime you math proble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A13-A8EE-4505-B21D-978E9BA870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alton’s atomic theory is not entirely accepted today. (1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atomic theory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y no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C6A-F4D4-4D31-A717-4B1DB352352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omson: CRT (electro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utherford: Au foil (nucleu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endeleev: first periodic 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936B-05E2-4491-BC28-5821A59E6E4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dern periodic: arranged by increasing atomic nu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05B-9CEC-4D90-9D68-B8128ECFF3F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tomic # = # of 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tomic mass = # of p + n in the nucle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# of electrons = atomic # (if not an io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EAA-40D9-4E68-A44A-857C4EC44F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ow many electrons in an atom of N with a mass # of 1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: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942-8ACC-4B3B-8A41-48950F8734A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sotopes: same # p, diff’t # 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somers: same formula, diff’t sha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8DC-69A3-489B-9A8C-8FD5413D5C4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hange g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mo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ivide by the molar ma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hange moles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ult. by the molar ma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77B3-AFC4-4B15-8D23-B1EC886BB96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ow many moles in 25.0 grams of F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: 0.448 m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98A-B749-4760-867F-B78857EAA24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ow many moles in 25.0 grams of NaNO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: 0.294 m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B99A-4EB9-40BD-B2E5-FCFC877498D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ich sample has more atoms?  10 g of Ag or 10 g of Au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: A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1F5-4CA6-41C4-B1A7-8D9938B2700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: Scientific Method and the Metric Syst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186-80EF-42CD-B5A0-46CB85766A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47C-8914-40C4-9A62-64E1BFAA1E8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ave theory of l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 = </a:t>
            </a:r>
            <a:r>
              <a:rPr b="1" lang="el-GR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λ</a:t>
            </a:r>
            <a:r>
              <a:rPr b="1" lang="el-GR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 = h</a:t>
            </a:r>
            <a:r>
              <a:rPr b="1" lang="el-GR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Higher frequencies = higher energ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122-C01B-41C1-895A-4944F801541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hotons are released when electrons return to their ground 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(red, yellow, blu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99E-49A2-4017-ACDB-8E544CAAB3A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ohr: used quantum theory to describe electron orb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chrödinger: used wave mechanics to describe electron orbital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BF3-9C55-4CD2-91EB-5F5A906ECDC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rbitals: probability ma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lectron configurations: based on quantum numb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10F-A080-4A60-ABC8-AFE421047E0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rbital shapes: s, p, d, 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ufbau, Pauli, Hu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the rul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372-74E4-4C32-AC09-113A20B0F30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ook for the </a:t>
            </a:r>
            <a:r>
              <a:rPr b="1" i="1" lang="en-US" sz="5400" spc="-1" strike="noStrike">
                <a:solidFill>
                  <a:srgbClr val="eaeaea"/>
                </a:solidFill>
                <a:latin typeface="Arial"/>
              </a:rPr>
              <a:t>incorrect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configu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3 types of configur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[Noble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670-0AB4-4A39-BAD0-0438A904777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lements “want” to have noble gas configur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ow many electrons are needed by N to achieve a noble gas config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: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EE0-6DE3-4154-9565-D51629C848C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ich element has the configuration of 1s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2s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2p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6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3s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3p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5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: Chlor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02C-3075-4DA3-AFDE-B5BA61DED1F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eriodic propertie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lectronegativ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onization ener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tomic rad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onic rad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A0F-0650-45E2-89E5-6152E535767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-360" y="14475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2: Matter, density, chemical and physical properties, atomic theory and the m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214-1C39-442A-9A0B-19736126EA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ich type of elements have higher electronegativities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: non-met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6A2-16A6-48FD-B16F-3F03B218E5A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the “families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rouped by similar chemical characteris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ue to valence electr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4C9-EB89-4640-996E-917776CB5DA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BA9-6AD0-438B-8DEA-C831F900F38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ree types of bo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onic: metals + non-met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valent: 2 non-met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F15-4882-4BFD-9988-3208C6C3974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hapes!  Bent, linear, trigonal pyramidal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hape of CO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Ans: Lin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138-A198-4BCB-AEA1-04E814E6749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ond angles: linear, bent, tetrahedr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76B-B4AD-45F8-9D4A-D10C8AD80A7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esonance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5D6-70E1-49BD-A573-FFB732F5E5B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B12-64A1-47D9-A215-0100681DEAA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am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ype I: (Grp. 1&amp;2 metals + non-meta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ype II: Other metals + non-metal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4F1-81D1-4884-9B62-70E4D0B41E3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xidation state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l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+3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, Zn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+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, Ag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+1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914-5D48-4F28-B2E9-25E297899B7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-3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3: Structure of the atom, quantum theory, atomic models and electron configur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E9D-970D-43E2-9B31-04726E87BD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am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ype III: 2 non-metals (use prefixes—bi-, tri-, tetra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0E0-1DBD-42D5-964E-62BBA32ABAA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am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olyatomic 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B6A-A26B-4A85-A250-B1BDFB6AFA5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ame these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CO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  <a:ea typeface="Times New Roman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, NaNO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  <a:ea typeface="Times New Roman"/>
              </a:rPr>
              <a:t>3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, Cu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Formul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Iron(II)oxide, sodium ox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35D-E661-4E5A-BA87-8E8649AABFB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mpirical formula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%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g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mol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ratios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E.F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Molecular formu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molar mass / emp. mass = ratio (</a:t>
            </a:r>
            <a:r>
              <a:rPr b="1" i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n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788-F93F-4182-AEFF-7F24F525F6A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CE24-E8B3-4748-BDAC-282DF25F55C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alancing equ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eactants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rodu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umber of atoms must be the same on each side of the equ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2F8-9DEE-40C0-BA90-10D9A1A4A74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xpect to balance several equ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FE4-FA5F-4716-B0C1-DF718653CE6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</a:t>
            </a:r>
            <a:r>
              <a:rPr b="1" lang="en-US" sz="5400" spc="-1" strike="noStrike" u="sng">
                <a:solidFill>
                  <a:srgbClr val="eaeaea"/>
                </a:solidFill>
                <a:uFillTx/>
                <a:latin typeface="Arial"/>
              </a:rPr>
              <a:t>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4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+ 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</a:t>
            </a:r>
            <a:r>
              <a:rPr b="1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C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(g) +    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O 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When the above equation is balanced, what is the coefficient of oxyge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DBC-8BEC-41D4-9739-0DFE6DF0312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4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+ </a:t>
            </a:r>
            <a:r>
              <a:rPr b="1" i="1" lang="en-US" sz="5400" spc="-1" strike="noStrike" u="sng">
                <a:solidFill>
                  <a:srgbClr val="eaeaea"/>
                </a:solidFill>
                <a:uFillTx/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</a:t>
            </a:r>
            <a:r>
              <a:rPr b="1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C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(g) + 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O 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When the above equation is balanced, what is the coefficient of oxyge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48A-7624-4AC3-9A09-EEAFEF84C47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ypes of reactions:  synthesis, decomposition, single replacement, double replacement, combus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B691-5223-4285-AFD5-5F757F772EB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3: Also, periodic law and proper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C84-5615-41AF-8B24-FA18A13115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n PPT rxns: solids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pectator ions remain dissolv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D441-FE43-44C9-B8FD-F55684DF56D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F96-A246-4F29-9E37-28E5A3CE39B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toichiomet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alance eq.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rams to moles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atios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es to gra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F5E-21CD-431D-A7ED-9395EBADDB8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4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 + 2 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 </a:t>
            </a:r>
            <a:r>
              <a:rPr b="1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C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(g)   + 2 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O 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If 2.0 moles of methane react with excess oxygen, how many moles of water will be produc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96F-753A-4453-8A95-A69FF72F75A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4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 + 2 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 </a:t>
            </a:r>
            <a:r>
              <a:rPr b="1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  C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(g)   +   2 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O 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Ans:  4.0 m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AC3-A84E-4599-B6C2-52ABA111616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xpect to perform several stoichiometric calcul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5AA-927D-4512-8CBF-85D756259C1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imiting react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ave vs. ne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894-358A-4DF8-BCC4-A193A81AB75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ercent Yield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ctu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-----------------  x 100%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oretic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1A2-5400-4137-873F-C1E85D1F345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on’t forget to write your version on your scantr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ood Luck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AB5-DCBE-4D1E-B56C-CA240C27D2EC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4: Types of chemical bonds, molecular geometry and reson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CB5-C659-4A9B-A694-9C49484706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9:11:04Z</dcterms:created>
  <dc:creator>CFISD</dc:creator>
  <dc:description/>
  <dc:language>en-US</dc:language>
  <cp:lastModifiedBy>CFISD</cp:lastModifiedBy>
  <dcterms:modified xsi:type="dcterms:W3CDTF">2009-01-10T17:45:18Z</dcterms:modified>
  <cp:revision>57</cp:revision>
  <dc:subject/>
  <dc:title>Slide 1</dc:title>
</cp:coreProperties>
</file>